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A28-A546-485A-8BC7-9E57017B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85A-55AE-473E-A691-0B67494C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8B2-083E-4F45-AAC2-6AAC89BE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804-49CB-42A2-ADB0-E983F3BA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5D7-3528-4E10-BFF2-155FFD2D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49D-6F1A-45C0-A8DC-08AE38FA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DCD-E618-49D7-A822-2C68C0E9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F5C-4782-4BD5-BC23-EF9717B0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019-3FB0-4A40-946A-67FEBCB9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B8C-60C4-4C56-A5DA-19C6E0B1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8CA-0011-4860-BEDB-9658DD8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22C-A250-4B72-8D65-D6100DE5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39CA-CDDE-45BB-A790-0B24DF06A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76280"/>
            <a:ext cx="450072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.. «господст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що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ве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р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л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 на страстите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Петр. 1: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4005360"/>
            <a:ext cx="370836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...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а не промишляваме за страстите н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Рим. 13: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404640"/>
            <a:ext cx="3745080" cy="61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това, ако някой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е в Христос, т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й е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о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о създани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;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старото преми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;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то,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в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чко стана ново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i="1" lang="ru-RU" sz="4000" spc="-1" strike="noStrike">
                <a:solidFill>
                  <a:srgbClr val="ff9966"/>
                </a:solidFill>
                <a:latin typeface="Tahoma"/>
              </a:rPr>
              <a:t>2 Кор. 5:17</a:t>
            </a:r>
            <a:r>
              <a:rPr b="0" lang="en-US" sz="4000" spc="-1" strike="noStrike">
                <a:solidFill>
                  <a:srgbClr val="ff99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15920"/>
            <a:ext cx="4608360" cy="72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говорът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решите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: «Не»! Зако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т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редств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р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 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о о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говорът ще бъд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решително «Да»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ко говорим з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ато за етало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иянск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115920"/>
            <a:ext cx="460836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975120"/>
            <a:ext cx="47880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гава, чрез вяра отнемаме ли закона? Да не бъде! Но утвърждаваме закона.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bg-BG" sz="3600" spc="-1" strike="noStrike">
                <a:solidFill>
                  <a:srgbClr val="ff9966"/>
                </a:solidFill>
                <a:latin typeface="Tahoma"/>
              </a:rPr>
              <a:t>Рим.3: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4280"/>
            <a:ext cx="48592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 отхвърлям Божията благодат; защото ако правдата се придобива чрез закона, тогава Христос е умрял напразно.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bg-BG" sz="3600" spc="-1" strike="noStrike">
                <a:solidFill>
                  <a:srgbClr val="ff9966"/>
                </a:solidFill>
                <a:latin typeface="Tahoma"/>
              </a:rPr>
              <a:t>Гал.2: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0"/>
            <a:ext cx="4753080" cy="694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Когато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внимателно ч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ем написаното от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апостол Пав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л,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откриваме, 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е той утвърждава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закона ка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м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ярка за 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христи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нск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, но ос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жда вс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к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,             к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ой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подменял         в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ата със закона 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и с   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ег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ова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помощ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 се е опитвал да придобие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праведност, ко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то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произхожда единствено                       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  от</a:t>
            </a: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 Бога.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1628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000" spc="-1" strike="noStrike">
                <a:solidFill>
                  <a:srgbClr val="ff9966"/>
                </a:solidFill>
                <a:latin typeface="Tahoma"/>
              </a:rPr>
              <a:t>Виж: Рим.3:20; 9:30-32; Гал.2:16; 3: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1280" y="189000"/>
            <a:ext cx="6193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9900"/>
                </a:solidFill>
                <a:latin typeface="Tahoma"/>
              </a:rPr>
              <a:t>Отпадане от благодат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38240"/>
            <a:ext cx="8458200" cy="15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bg-BG" sz="5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Извращение на Евангели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562040"/>
            <a:ext cx="529272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които желаете да се оправдаете чре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те се отлъчили от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Христа, отп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л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т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т благода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ние чрез Духа ожидаме оправданието чрез вяра, за което се надявам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620640"/>
            <a:ext cx="345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Гал. 5:4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79640" y="476280"/>
            <a:ext cx="5761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9900"/>
                </a:solidFill>
                <a:latin typeface="Tahoma"/>
              </a:rPr>
              <a:t>Отпадане от благодат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440" y="2060640"/>
            <a:ext cx="83516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. Извращение на Евангели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3357720"/>
            <a:ext cx="7488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. Любов към този свя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9640" y="476280"/>
            <a:ext cx="8280360" cy="552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Tahoma"/>
              </a:rPr>
              <a:t>Закон и благодат - ІІ ча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579760"/>
            <a:ext cx="485928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Димас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ме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тав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, като обикна сегашния свят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620640"/>
            <a:ext cx="345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620640"/>
            <a:ext cx="3527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2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Тим. 4: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4941720"/>
            <a:ext cx="9396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... но който устои до край, той ще бъде спас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3080" y="6308640"/>
            <a:ext cx="205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ff9900"/>
                </a:solidFill>
                <a:latin typeface="Tahoma"/>
              </a:rPr>
              <a:t>Мар.13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27280" y="18900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9900"/>
                </a:solidFill>
                <a:latin typeface="Tahoma"/>
              </a:rPr>
              <a:t>Отпадане от благодат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060640"/>
            <a:ext cx="83534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. Извращение на Евангели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357720"/>
            <a:ext cx="7488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. Любов към този свя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4653000"/>
            <a:ext cx="69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3. Преследва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916280"/>
            <a:ext cx="457200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Но и всички, които желаят да живеят благочестиво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в Христа Исус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ще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 гон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ен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6206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2Тим. 3: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1341360"/>
            <a:ext cx="583380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Бъдете трезвени, будни. Противникът ви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т, като рикаещ лъв обикаля, търсейки кого да погълне. Съпротивете се нему, стоейки твърди във вярата, като знаете, че същите страдания се понасят и от братята ви в света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692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Петр. 5:8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700280"/>
            <a:ext cx="43214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 който е п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аве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пред Мене, ще живее чрез вяр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;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о ако се дръпне назад, няма да благоволи в него душата Ми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692280"/>
            <a:ext cx="2305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Евр. 10: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236000" y="6400800"/>
            <a:ext cx="190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ff9900"/>
                </a:solidFill>
                <a:latin typeface="Tahoma"/>
              </a:rPr>
              <a:t>Евр. 10: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581360"/>
            <a:ext cx="76327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ие, обаче, не сме от ония, които се дърпат назад и се погубват, а от тези, които вярват и душата им се спася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19320" y="692280"/>
            <a:ext cx="79246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1. К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 ние се намирам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д благодат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ва означа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ч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 въпреки, ч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аш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греховна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и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маме в себ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ож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ух, К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й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о мож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д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произв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нас Христо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аведност и д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и дад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и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 д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еодол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м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чк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у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19320" y="1341360"/>
            <a:ext cx="79246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2. Предста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 на някои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христ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, че са хор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грех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вете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к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тени и затова с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лучили достъп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о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еб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е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 истинскит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чк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от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сящо с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к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м стари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от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ло у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щожено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 к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о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19320" y="1341360"/>
            <a:ext cx="79246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3. Огранич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а ли зако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так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ия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?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й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е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м служи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редств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ение, но к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етало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ск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95680" y="0"/>
            <a:ext cx="76320" cy="6858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9220320" cy="76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0066"/>
                </a:solidFill>
                <a:latin typeface="Tahoma"/>
              </a:rPr>
              <a:t>   “</a:t>
            </a:r>
            <a:r>
              <a:rPr b="0" lang="bg-BG" sz="3600" spc="-1" strike="noStrike">
                <a:solidFill>
                  <a:srgbClr val="ff0066"/>
                </a:solidFill>
                <a:latin typeface="Tahoma"/>
              </a:rPr>
              <a:t>ВИЕ В ХРИСТА”</a:t>
            </a: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3300"/>
                </a:solidFill>
                <a:latin typeface="Tahoma"/>
              </a:rPr>
              <a:t>“ХРИСТОС ВЪВ ВАС”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обективно евангелие 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убективно евангел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ffccff"/>
                </a:solidFill>
                <a:latin typeface="Tahoma"/>
              </a:rPr>
              <a:t>1 Кор.1:30,31 Еф.1:3-6,2:13; Фил.3:9</a:t>
            </a:r>
            <a:r>
              <a:rPr b="0" lang="bg-BG" sz="2000" spc="-1" strike="noStrike">
                <a:solidFill>
                  <a:srgbClr val="ffccff"/>
                </a:solidFill>
                <a:latin typeface="Tahoma"/>
              </a:rPr>
              <a:t>     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Рим.8:10;Гал.2:20;Еф.3:17;Кол.1: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вменена праведност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идадена праве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5740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Завършено дело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 завършено де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ccff"/>
                </a:solidFill>
                <a:latin typeface="Tahoma"/>
              </a:rPr>
              <a:t>1 Кор.6:11; Еф. 1:3; Кол. 2:10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Рим.5:3-5; 8:18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1Кор.15:51-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3726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ccff"/>
                </a:solidFill>
                <a:latin typeface="Tahoma"/>
              </a:rPr>
              <a:t>У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ниверсално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 Персонално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ccff"/>
                </a:solidFill>
                <a:latin typeface="Tahoma"/>
              </a:rPr>
              <a:t>Рим.5:18;2Кор.5:18,19;1Ин.2:2.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 Рим.8:9,10;2Кор.3:17,18;6:14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5616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  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Вън от нас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ътре в нас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ff"/>
                </a:solidFill>
                <a:latin typeface="Tahoma"/>
              </a:rPr>
              <a:t>     </a:t>
            </a:r>
            <a:r>
              <a:rPr b="0" i="1" lang="bg-BG" sz="2400" spc="-1" strike="noStrike">
                <a:solidFill>
                  <a:srgbClr val="ffccff"/>
                </a:solidFill>
                <a:latin typeface="Tahoma"/>
              </a:rPr>
              <a:t>Рим.3:21,28; Фил. 3:9</a:t>
            </a:r>
            <a:r>
              <a:rPr b="0" i="1" lang="bg-BG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Ин.15:1-5;17:23; Рим.8:9-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91320"/>
            <a:ext cx="92203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	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Дава награда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емонстрира     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ffccff"/>
                </a:solidFill>
                <a:latin typeface="Tahoma"/>
              </a:rPr>
              <a:t>Деян.13:39; Рим.3:28; Гал.2:16</a:t>
            </a:r>
            <a:r>
              <a:rPr b="0" i="1" lang="bg-BG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Мат.5:14-16;Ин.13:34,35; 14: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35268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76320" y="571500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2920" y="-27000"/>
            <a:ext cx="810108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4. Може ли човек, 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чрез 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спасен в Христ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някога да изгуби 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спас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раведно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 която н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е праведно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и 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з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аведно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еприкосновена.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ъй като само чре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а 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з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аведно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та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аш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достояние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и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можем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а се лишим от спасение, като се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треч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м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т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л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като я и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став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м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19320" y="2489040"/>
            <a:ext cx="79246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99"/>
                </a:solidFill>
                <a:latin typeface="Tahoma"/>
              </a:rPr>
              <a:t>А. Извращение</a:t>
            </a:r>
            <a:r>
              <a:rPr b="0" i="1" lang="bg-BG" sz="3600" spc="-1" strike="noStrike">
                <a:solidFill>
                  <a:srgbClr val="ffff99"/>
                </a:solidFill>
                <a:latin typeface="Tahoma"/>
              </a:rPr>
              <a:t> на</a:t>
            </a:r>
            <a:r>
              <a:rPr b="0" i="1" lang="ru-RU" sz="3600" spc="-1" strike="noStrike">
                <a:solidFill>
                  <a:srgbClr val="ffff99"/>
                </a:solidFill>
                <a:latin typeface="Tahoma"/>
              </a:rPr>
              <a:t> Евангели</a:t>
            </a:r>
            <a:r>
              <a:rPr b="0" i="1" lang="bg-BG" sz="3600" spc="-1" strike="noStrike">
                <a:solidFill>
                  <a:srgbClr val="ffff99"/>
                </a:solidFill>
                <a:latin typeface="Tahoma"/>
              </a:rPr>
              <a:t>ето</a:t>
            </a:r>
            <a:r>
              <a:rPr b="0" i="1" lang="ru-RU" sz="3600" spc="-1" strike="noStrike">
                <a:solidFill>
                  <a:srgbClr val="ffff99"/>
                </a:solidFill>
                <a:latin typeface="Tahoma"/>
              </a:rPr>
              <a:t>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атана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е 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да н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застав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д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м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ч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пасени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 се и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ш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а не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амо чре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а зависи в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якаква степен и о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аш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к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44280"/>
            <a:ext cx="7885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5. Сатана 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олз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сновно три способа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 д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у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ш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щия д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тп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н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т благода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19320" y="3111480"/>
            <a:ext cx="792468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99"/>
                </a:solidFill>
                <a:latin typeface="Tahoma"/>
              </a:rPr>
              <a:t>Б. Любов к</a:t>
            </a:r>
            <a:r>
              <a:rPr b="0" i="1" lang="bg-BG" sz="3600" spc="-1" strike="noStrike">
                <a:solidFill>
                  <a:srgbClr val="ffff99"/>
                </a:solidFill>
                <a:latin typeface="Tahoma"/>
              </a:rPr>
              <a:t>ъм</a:t>
            </a:r>
            <a:r>
              <a:rPr b="0" i="1" lang="ru-RU" sz="3600" spc="-1" strike="noStrike">
                <a:solidFill>
                  <a:srgbClr val="ffff99"/>
                </a:solidFill>
                <a:latin typeface="Tahoma"/>
              </a:rPr>
              <a:t> то</a:t>
            </a:r>
            <a:r>
              <a:rPr b="0" i="1" lang="bg-BG" sz="3600" spc="-1" strike="noStrike">
                <a:solidFill>
                  <a:srgbClr val="ffff99"/>
                </a:solidFill>
                <a:latin typeface="Tahoma"/>
              </a:rPr>
              <a:t>зи свят</a:t>
            </a:r>
            <a:r>
              <a:rPr b="0" i="1" lang="ru-RU" sz="3600" spc="-1" strike="noStrike">
                <a:solidFill>
                  <a:srgbClr val="ffff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атана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и омайва със светските лъскави нещ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 постепенно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е 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 да н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леч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братно в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ве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тделяйки ни о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Христ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33480"/>
            <a:ext cx="8028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5. Сатана 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олз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сновно три способа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 д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у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ш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щия д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тп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н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т благода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19320" y="2013120"/>
            <a:ext cx="792468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99"/>
                </a:solidFill>
                <a:latin typeface="Tahoma"/>
              </a:rPr>
              <a:t>В. Преследв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ъ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не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бича д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трада, и сатана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олз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 то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й ни обрича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физическо, социално и нравствено страдание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питвайки се да прекъсне нашата връзк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 Христо</a:t>
            </a:r>
            <a:r>
              <a:rPr b="0" lang="bg-BG" sz="3600" spc="-1" strike="noStrike">
                <a:solidFill>
                  <a:srgbClr val="ffffcc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6095880"/>
            <a:ext cx="716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66"/>
                </a:solidFill>
                <a:latin typeface="Tahoma"/>
              </a:rPr>
              <a:t>КЛЮЧОВИ  МИС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33480"/>
            <a:ext cx="8028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5. Сатана 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олз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сновно три способа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 д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у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ш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щия д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тп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н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от благода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5445000"/>
            <a:ext cx="914400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А с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ам Бог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 мира да 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ви 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освети 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на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п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лно и 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дано се запазят непокътнати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 дух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 и душа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 и т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ло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и без порок, до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 пришествие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то на нашия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 Господ Исус Христ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. Верен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 е Оня, Който ви п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риз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ва и ще извърши това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... Благодат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та на нашия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 Господ Исус Христ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ос д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 бъде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 с ва</a:t>
            </a:r>
            <a:r>
              <a:rPr b="0" i="1" lang="bg-BG" sz="20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i="1" lang="ru-RU" sz="2000" spc="-1" strike="noStrike">
                <a:solidFill>
                  <a:srgbClr val="ffffcc"/>
                </a:solidFill>
                <a:latin typeface="Tahoma"/>
              </a:rPr>
              <a:t>. Амин»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ff9900"/>
                </a:solidFill>
                <a:latin typeface="Tahoma"/>
              </a:rPr>
              <a:t>1</a:t>
            </a:r>
            <a:r>
              <a:rPr b="0" lang="ru-RU" sz="1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bg-BG" sz="1200" spc="-1" strike="noStrike">
                <a:solidFill>
                  <a:srgbClr val="ff9900"/>
                </a:solidFill>
                <a:latin typeface="Tahoma"/>
              </a:rPr>
              <a:t>Сол</a:t>
            </a:r>
            <a:r>
              <a:rPr b="0" i="1" lang="ru-RU" sz="1200" spc="-1" strike="noStrike">
                <a:solidFill>
                  <a:srgbClr val="ff9900"/>
                </a:solidFill>
                <a:latin typeface="Tahoma"/>
              </a:rPr>
              <a:t>. 5:23, 24,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51640" y="115920"/>
            <a:ext cx="3313080" cy="667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ко ви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христ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т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желает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з д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вя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м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в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аш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упител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трябва да изглеждате много повече като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упени!»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Ниц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24360" y="620640"/>
            <a:ext cx="2519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600" spc="-1" strike="noStrike">
                <a:solidFill>
                  <a:srgbClr val="ff9966"/>
                </a:solidFill>
                <a:latin typeface="Tahoma"/>
              </a:rPr>
              <a:t>Рим. 5: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1341360"/>
            <a:ext cx="594036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 така, оправдани чрез вяра, имаме мир с Бога чрез нашия Господ Исус Христос, посредством Когото ние чрез вяра придобихме и достъп до тази благодат, в която стоим и се радваме поради надеждата за Божията сла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341360"/>
            <a:ext cx="5940360" cy="61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Но с Божията б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агода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съм каквото съм; и дадената на мен Негова благодат не бе напраздно, но трудих се повече от всички тях - не аз, обаче, но Божията благодат, която беше с мен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620640"/>
            <a:ext cx="345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1 Кор. 15:10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484280"/>
            <a:ext cx="5257800" cy="557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любов, радост, мир, д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го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пение, благост, мило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милосърди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верност,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кротост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себеобуздание. Против такива неща ням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зак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620640"/>
            <a:ext cx="345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Гал. 5:22, 2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3213000"/>
            <a:ext cx="352728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 всичко имам сила чрез Онзи, Който ме подкрепява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9966"/>
                </a:solidFill>
                <a:latin typeface="Tahoma"/>
              </a:rPr>
              <a:t>Флп. 4: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21:22:28Z</dcterms:created>
  <dc:creator>Peter</dc:creator>
  <dc:description/>
  <dc:language>en-US</dc:language>
  <cp:lastModifiedBy>Peter</cp:lastModifiedBy>
  <dcterms:modified xsi:type="dcterms:W3CDTF">2003-10-19T21:38:14Z</dcterms:modified>
  <cp:revision>18</cp:revision>
  <dc:subject/>
  <dc:title>Slide 1</dc:title>
</cp:coreProperties>
</file>